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D1E-4F86-477B-B8F2-628C7A68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8B1-9520-4906-B90C-97569CDD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813-AFE8-4EFB-A512-A1188657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8E2-C78A-464E-8E40-34B22D02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24E-EED0-4DE4-A7A8-B948128F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CD5-8156-4C17-B6DC-F5119912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41E-D056-448E-9D04-EFB331FD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7AF-EE14-4AA6-B858-8D6A8DBC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6AE-5BDD-47E8-840C-B83A0B5C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17C-C76B-4A7A-ADA2-3B9565BF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B1F-A61E-4DAC-8026-348C7FFF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FF5-5E31-4BA7-82E9-BAC49635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F370-5FC1-4547-A7A4-DAACCDAF0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Alternative to Lord’s Prayer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arth-maker, Pain-b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e-mak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ource of all that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at shall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 and Mother of us al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ing God, in whom is heav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allowing of your name ec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univer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ay of your just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foll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peoples of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eavenly will b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created being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monwealth of pe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stain our h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e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bread we need for tod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e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hurts we absor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ne ano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imes of temptation and t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rials too great to end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par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he grip of all that is evi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e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reign in the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power that is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57:47Z</dcterms:created>
  <dc:creator>Anon Anon</dc:creator>
  <dc:description/>
  <dc:language>en-US</dc:language>
  <cp:lastModifiedBy>Anon Anon</cp:lastModifiedBy>
  <dcterms:modified xsi:type="dcterms:W3CDTF">2005-08-09T05:42:05Z</dcterms:modified>
  <cp:revision>10</cp:revision>
  <dc:subject/>
  <dc:title>Alternative to Lord’s Prayer (SLD-2)</dc:title>
</cp:coreProperties>
</file>